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01D-10A2-4CA1-BD69-EC464B21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48D-4016-431E-9B2B-3783E72E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73F-05A8-4E7A-A933-6A49B9FF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492-DA68-41FE-94E9-96057540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34E18-0942-4F1C-A3BF-977C08BA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A115F-BBCC-4E9F-BD91-9CBCC33E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F408C-B459-4030-871A-84E4E6C6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EFFF9-DE15-433E-B097-FFE6DFCC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EF270-CD9B-4CF3-A579-AD77FF04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D6628-0D7F-4F7E-BD36-180CD90B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2DE4A-D291-4994-9A83-79C6A889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6CC-4E6F-4E89-BE8A-DE342FF5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A4CF3-2365-40FB-8755-431F5FF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BBDDA-F127-45D6-8A61-BECF0CE7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65347-AE38-4420-BDB7-037312C9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1BA9A-ABEA-4CED-981B-955F90FF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D4B05-210B-4BB8-86F2-F9339DD5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2F7-E5B5-49A1-9699-8B449C5B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15D-E305-4158-9B4C-4FF47A19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58C-08ED-4F12-AB6B-3A928FCC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76B-4094-4F50-9250-3D72531A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8C0-BBB8-407F-B0A9-FD057EC0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77F-CDA8-430F-B00F-D0181BE5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339-6CD4-4415-81C3-39EAAE2C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9D25-8098-469A-A6FC-61EE483C3A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C69D-7776-4C53-9891-FAB8607813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9960" y="189000"/>
            <a:ext cx="592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s fronteriz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otro asalto a Baeza”  (agosto 14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cos, los mis moric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que ganáis mi sold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rribédesme a Baez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a villa torre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viejosm y a los ni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traed en cabalg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mozos y var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meted  todos a esp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ese viejo pero Dí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rendédmelo por la barb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quesa linda Leo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la mi enam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d vos, capitán Vanegas, porque venga más honr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i vos sois mandade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cierta la jornad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34:04Z</dcterms:created>
  <dc:creator> </dc:creator>
  <dc:description/>
  <dc:language>en-US</dc:language>
  <cp:lastModifiedBy> </cp:lastModifiedBy>
  <dcterms:modified xsi:type="dcterms:W3CDTF">2007-09-28T02:57:27Z</dcterms:modified>
  <cp:revision>6</cp:revision>
  <dc:subject/>
  <dc:title>Diapositiva 1</dc:title>
</cp:coreProperties>
</file>